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7A3-838F-4401-ABB2-402F16B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63A-FC22-48B6-B377-EDF25553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E6B-39A3-474B-A1D9-DDF80DD7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968-7F81-4BB3-9579-2A925129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A69-5EC1-48B2-A8AE-7C12E56A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CC0-6BCD-4CF9-8B89-8C0BE1F8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86D-7B68-437B-8ACE-8CFDBBDE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D7C-EA83-451C-BEE4-0F755DF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B7A-BA1B-4E7A-89AF-71E1EC2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619-CFEA-40EE-85FE-0BB85CA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27C-CCEA-4730-A058-11435F3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6E0-6B28-4C2D-93F5-D856C7F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BA86-1D64-4CA0-B52B-E28163251E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16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1980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10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872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16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520" y="5445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652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86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4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23:31Z</dcterms:modified>
  <cp:revision>74</cp:revision>
  <dc:subject/>
  <dc:title>Folie 1</dc:title>
</cp:coreProperties>
</file>